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BA7-A65F-4C41-98F3-26C482E0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913-196D-4BCB-A9BC-EF074770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462-716C-4719-9971-743DA9D4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40A-8538-4E83-A2E1-B3EE26B4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F4B-9CC2-4716-B2D9-44DCA273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FF6-4D03-4A01-BE20-7C95708C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8D8-8953-462C-8D3B-DDAF25EB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002-8B70-403A-9FA0-1812E0B1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50A-9BF5-457C-A06E-C2B0D005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93F-98D9-43BA-BFF1-7274A582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5FD-AC81-4542-8D64-41957F7F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DFB-3BB1-4A3B-8D27-9E4E3A2D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8693-4FC4-4F89-8ECD-D22E61336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of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li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solid changes directly to gas without passing through the liquid phas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: dry 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solid’s vapor pressure exceeds atmospheric pressure at or near room tempera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ful for separating substances and purifying compoun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1.bp.blogspot.com/_B-CKCNJUt8w/TINjM0n0M0I/AAAAAAAAA9A/X3u5n-kCaGw/s400/dry-ice.jpg"/>
          <p:cNvPicPr/>
          <p:nvPr/>
        </p:nvPicPr>
        <p:blipFill>
          <a:blip r:embed="rId1"/>
          <a:stretch/>
        </p:blipFill>
        <p:spPr>
          <a:xfrm>
            <a:off x="2743200" y="2590920"/>
            <a:ext cx="2763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cal point- point at which the substance can no longer exist as a liqui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ple point- describes the only set of conditions at which all three phases can exist in equilibrium with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serc.carleton.edu/images/research_education/equilibria/h2o_phase_diagram_-_color.v2.jpg"/>
          <p:cNvPicPr/>
          <p:nvPr/>
        </p:nvPicPr>
        <p:blipFill>
          <a:blip r:embed="rId1"/>
          <a:stretch/>
        </p:blipFill>
        <p:spPr>
          <a:xfrm>
            <a:off x="2438280" y="3200400"/>
            <a:ext cx="345924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uwgb.edu/dutchs/Graphics-Geol/ROCKMIN/MetPhaseDiagrams/H2OPhase.gif"/>
          <p:cNvPicPr/>
          <p:nvPr/>
        </p:nvPicPr>
        <p:blipFill>
          <a:blip r:embed="rId1"/>
          <a:stretch/>
        </p:blipFill>
        <p:spPr>
          <a:xfrm>
            <a:off x="2209680" y="1371600"/>
            <a:ext cx="38484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6:57:18Z</dcterms:created>
  <dc:creator>14kjordan</dc:creator>
  <dc:description/>
  <dc:language>en-US</dc:language>
  <cp:lastModifiedBy>14kjordan</cp:lastModifiedBy>
  <dcterms:modified xsi:type="dcterms:W3CDTF">2012-04-26T17:15:02Z</dcterms:modified>
  <cp:revision>2</cp:revision>
  <dc:subject/>
  <dc:title>Changes of State</dc:title>
</cp:coreProperties>
</file>